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8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5.png" ContentType="image/png"/>
  <Override PartName="/ppt/media/image33.jpeg" ContentType="image/jpeg"/>
  <Override PartName="/ppt/media/image6.png" ContentType="image/png"/>
  <Override PartName="/ppt/media/image29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CB3-2812-40FF-BE92-32FE0661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D67-0298-4CDE-9F39-1A9B108D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16D-A29F-4125-8605-E8D4C8EC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13B-A65C-4665-9D63-1134BDC3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BD0-921A-4A93-81BB-DC50DD4B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462-3385-4BBC-A842-BCB6B2D7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035-D375-4DBE-BB9D-60724A5A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53E-0578-446B-AD5A-B5FCF1C2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55B-1EA1-4C9A-99BD-0609782C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89D-D1E5-4D13-8FDD-5634A7E3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D98-A012-405F-9708-B845DD3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D1A-020E-4938-A217-82AA7F0D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33E3-E32D-4747-8684-9C1181A11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07080" y="5575320"/>
            <a:ext cx="343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r: 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61484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0000"/>
                </a:solidFill>
                <a:latin typeface="Arial"/>
              </a:rPr>
              <a:t>Optické pojítko „RONJA 10Mb/s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ŠE Pardub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zentace maturitního výrob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09760" y="2371680"/>
            <a:ext cx="4522680" cy="21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ECHANICKÁ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997360"/>
            <a:ext cx="4284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elkový pohled na RO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5543640" cy="2006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303640" cy="2032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546960" y="1052640"/>
            <a:ext cx="217476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92720" y="5516640"/>
            <a:ext cx="29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chycení ke komí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5516640"/>
            <a:ext cx="29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měřovací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516640"/>
            <a:ext cx="30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yhřívání čoč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55640" y="3500280"/>
            <a:ext cx="1917720" cy="203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PTICKÉ POJÍTKO MEZI DVĚMA POČÍT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997360"/>
            <a:ext cx="9144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To je vše, 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BSAH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60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užití RO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incip spoj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rovnání RONJI a Wi-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lokové sch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ysíl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ijím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echanická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OUŽITÍ RO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NJA (</a:t>
            </a:r>
            <a:r>
              <a:rPr b="1" lang="cs-CZ" sz="3200" spc="-1" strike="noStrike">
                <a:solidFill>
                  <a:srgbClr val="a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asonable </a:t>
            </a:r>
            <a:r>
              <a:rPr b="1" lang="cs-CZ" sz="3200" spc="-1" strike="noStrike">
                <a:solidFill>
                  <a:srgbClr val="a00000"/>
                </a:solidFill>
                <a:latin typeface="Times New Roman"/>
              </a:rPr>
              <a:t>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tical </a:t>
            </a:r>
            <a:r>
              <a:rPr b="1" lang="cs-CZ" sz="3200" spc="-1" strike="noStrike">
                <a:solidFill>
                  <a:srgbClr val="a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ar </a:t>
            </a:r>
            <a:r>
              <a:rPr b="1" lang="cs-CZ" sz="3200" spc="-1" strike="noStrike">
                <a:solidFill>
                  <a:srgbClr val="a00000"/>
                </a:solidFill>
                <a:latin typeface="Times New Roman"/>
              </a:rPr>
              <a:t>J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int </a:t>
            </a:r>
            <a:r>
              <a:rPr b="1" lang="cs-CZ" sz="3200" spc="-1" strike="noStrike">
                <a:solidFill>
                  <a:srgbClr val="a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e to optické pojítko propojující dva počítač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a velkou vzdálenost fungující s konstantní přenosovou rychlostí 10 Mb/s pro použití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 ethernetové karty nebo switch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 RJ45 konekt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020000" y="907920"/>
            <a:ext cx="1655640" cy="114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19640" y="907920"/>
            <a:ext cx="2303280" cy="1105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3240000" cy="947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443640" y="4437000"/>
            <a:ext cx="2232000" cy="1452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24000" y="907920"/>
            <a:ext cx="18000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7920000" cy="2079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7920000" cy="207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RINCIP SPOJ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3357360"/>
            <a:ext cx="5545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ětelný kuž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hnisko čoč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ové svět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08720" y="3429000"/>
            <a:ext cx="2943000" cy="223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580000" y="3429000"/>
            <a:ext cx="287964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OROVNÁNÍ RONJI A WI-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Výhody: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2376360" cy="151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907920"/>
            <a:ext cx="88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ONJA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    Wi-F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IEEE 802.1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2637000"/>
            <a:ext cx="381636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stantní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dolnost proti 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thernetová kart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076640"/>
            <a:ext cx="88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Nevýhody: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Nevýhody: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2637000"/>
            <a:ext cx="36352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dr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lehlivost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4581360"/>
            <a:ext cx="403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y počas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má vid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áročnost na výro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581360"/>
            <a:ext cx="3635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ahlcenost pá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948360" y="1052640"/>
            <a:ext cx="10843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LOKOVÉ SCH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896240" cy="203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796000" y="3429000"/>
            <a:ext cx="271620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68360" y="3644640"/>
            <a:ext cx="4968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terface, vysílač, přijíma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ís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dnotlivé funkce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belá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7416720" cy="518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131640" y="4220640"/>
            <a:ext cx="3095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Napájecí ob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907920"/>
            <a:ext cx="3600720" cy="792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4076640"/>
            <a:ext cx="1008000" cy="1440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5013360"/>
            <a:ext cx="432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1 MHz ochranný sig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4076640"/>
            <a:ext cx="1008000" cy="1440000"/>
          </a:xfrm>
          <a:prstGeom prst="rect">
            <a:avLst/>
          </a:prstGeom>
          <a:noFill/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2349360"/>
            <a:ext cx="2233800" cy="1295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4724280"/>
            <a:ext cx="360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Roztahovač pul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360" y="3716280"/>
            <a:ext cx="863640" cy="720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907920"/>
            <a:ext cx="3600720" cy="792360"/>
          </a:xfrm>
          <a:prstGeom prst="rect">
            <a:avLst/>
          </a:prstGeom>
          <a:noFill/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349360"/>
            <a:ext cx="2233800" cy="129564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292640"/>
            <a:ext cx="42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Propouštěč 1/1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00000" y="1612800"/>
            <a:ext cx="4896000" cy="3097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484360" y="1579680"/>
            <a:ext cx="3024360" cy="262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348000" y="1197000"/>
            <a:ext cx="2643120" cy="3803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826920" y="2276640"/>
            <a:ext cx="7274160" cy="184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2847 -0.31468 L 2.5E-006 -1.96532E-006 E">
                                      <p:cBhvr>
                                        <p:cTn id="14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125 0.26219 L -2.5E-006 3.12139E-006 E">
                                      <p:cBhvr>
                                        <p:cTn id="16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44896 -0.05248 L 2.5E-006 -1.50289E-006 E">
                                      <p:cBhvr>
                                        <p:cTn id="18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3507 0.13734 L -4.44444E-006 3.81503E-006 E">
                                      <p:cBhvr>
                                        <p:cTn id="19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066160" cy="4916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YSÍL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708280"/>
            <a:ext cx="2087640" cy="2160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1557360"/>
            <a:ext cx="2592360" cy="4176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4365720"/>
            <a:ext cx="48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Limitovací zesilova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2708280"/>
            <a:ext cx="2087640" cy="216072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88000" y="1095480"/>
            <a:ext cx="3240000" cy="3219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19280" y="5300640"/>
            <a:ext cx="518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osílení proudu do 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826920" y="3357720"/>
            <a:ext cx="1028880" cy="108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1008360" cy="804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4869000"/>
            <a:ext cx="676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Q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&gt;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zesil. s velkým zesíl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gnál zesílený a rovně oříznut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ní zkreslení sg. v čase jako na 1T zes. v zap.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2824200" y="1125360"/>
            <a:ext cx="270036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8403 0.12971 L -1.38889E-006 3.46821E-006 E">
                                      <p:cBhvr>
                                        <p:cTn id="22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34653 0.06289 L 2.22222E-006 3.58382E-006 E">
                                      <p:cBhvr>
                                        <p:cTn id="24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7848360" cy="326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ŘIJÍM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94600"/>
            <a:ext cx="26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ONJA 10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80160" y="6286680"/>
            <a:ext cx="246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ip Němec 4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076640"/>
            <a:ext cx="5689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a50021"/>
                </a:solidFill>
                <a:uFillTx/>
                <a:latin typeface="Times New Roman"/>
              </a:rPr>
              <a:t>Vzdušná konstru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mi citlivé na rušivé vli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a DPS parazitní kapacity a induk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elektrikum vzduch, napojené součástky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cínovaná krabička a přepá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72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2565360"/>
            <a:ext cx="936720" cy="934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3429000"/>
            <a:ext cx="518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řijímací di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1413000"/>
            <a:ext cx="1441440" cy="1944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565360"/>
            <a:ext cx="936720" cy="93492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500280"/>
            <a:ext cx="518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Nízkošumový tranz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141720"/>
            <a:ext cx="2736720" cy="718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1413000"/>
            <a:ext cx="1441440" cy="194472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2637000"/>
            <a:ext cx="518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tenzita sign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49760" y="907920"/>
            <a:ext cx="234324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492360" y="907920"/>
            <a:ext cx="2257560" cy="2454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763640" y="973080"/>
            <a:ext cx="5040360" cy="17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7552 0.14659 L -1.94444E-006 -2.65896E-006 E">
                                      <p:cBhvr>
                                        <p:cTn id="28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2517 0.01064 L -4.16667E-006 -6.93642E-007 E">
                                      <p:cBhvr>
                                        <p:cTn id="30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8108 0.23075 L 1.11111E-006 -9.82659E-007 E">
                                      <p:cBhvr>
                                        <p:cTn id="32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0:52Z</dcterms:created>
  <dc:creator>Dave</dc:creator>
  <dc:description/>
  <dc:language>en-US</dc:language>
  <cp:lastModifiedBy>Jeff_Dave</cp:lastModifiedBy>
  <dcterms:modified xsi:type="dcterms:W3CDTF">2005-05-13T11:17:12Z</dcterms:modified>
  <cp:revision>66</cp:revision>
  <dc:subject/>
  <dc:title>Snímek 1</dc:title>
</cp:coreProperties>
</file>