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A09-9B5D-495D-AC10-1A525D97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AB6-52D6-4F92-BD01-BEC6EBF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2D1-E5FB-4CB4-ABDF-E1A0EFD1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700-76F8-4C94-970C-78E9495B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D9D-7D95-4183-8EFE-E1AAE68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C04-07EF-4DBC-B72E-B80CDF08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917-409C-4EEB-8F4C-3D383EA6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A77-B5CD-4CCA-9F9B-B879206A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576-E07C-4819-8DE0-A8503A05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4B7-CF07-4243-92EA-2245AED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9F6-3993-441B-B0B3-C9E7C0A5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883-9C98-40F3-84E1-F125131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D91-AF7E-46E3-940F-49550EAF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entace maturitního výrob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65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 p t i c k é  p o j í t k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308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pracoval Petr Sádecký                                                                    2004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wis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1 MHz oscil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Napájecí obv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Přijímací 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Vysílací 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19840" y="3938760"/>
            <a:ext cx="3295440" cy="2187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019840" y="1600200"/>
            <a:ext cx="3294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chanická část - ro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Zaostření paprsku do ohni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Držení rour v rovnoběžné pol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19840" y="1600200"/>
            <a:ext cx="329400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19840" y="3938760"/>
            <a:ext cx="329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A to je vše, děkuji vám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xit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2" dur="20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2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sah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Výhody optického pojí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Nevýhody optického pojí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Blokové schéma optického pojí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Vysíla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Přijím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Twist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Mechanická č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hody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938760"/>
            <a:ext cx="82184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eorgia"/>
              </a:rPr>
              <a:t>Vysoká odolnost proti ru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Přenos není ovlivněn „přeplněností“ pásma 2,4 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eorgia"/>
              </a:rPr>
              <a:t>Stabilita přeno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Optické pojítko má stabilní rychlost přenosu 10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eorgia"/>
              </a:rPr>
              <a:t>Minimalizace odposle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Přesně mířený paprsek lze jen ztěží odposlouchá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3933720"/>
            <a:ext cx="33224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20840" y="1733400"/>
            <a:ext cx="65023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výhody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Ovlivnitelnost počas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Optické pojítko není schopno přenosu za nepříznivých podmínek jako 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hustá ml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sněž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hustý déš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Nutnost přímé vidite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Bez přímé viditelnosti se přenos neuskuteční, protože paprsek musí být zaměřen dosti přesně.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1600200"/>
            <a:ext cx="396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55640" y="1989000"/>
            <a:ext cx="3166920" cy="4535640"/>
            <a:chOff x="755640" y="1989000"/>
            <a:chExt cx="3166920" cy="4535640"/>
          </a:xfrm>
        </p:grpSpPr>
        <p:sp>
          <p:nvSpPr>
            <p:cNvPr id="54" name=""/>
            <p:cNvSpPr/>
            <p:nvPr/>
          </p:nvSpPr>
          <p:spPr>
            <a:xfrm>
              <a:off x="75564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64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03640" y="1989000"/>
            <a:ext cx="3167280" cy="4535640"/>
            <a:chOff x="5003640" y="1989000"/>
            <a:chExt cx="3167280" cy="4535640"/>
          </a:xfrm>
        </p:grpSpPr>
        <p:sp>
          <p:nvSpPr>
            <p:cNvPr id="57" name=""/>
            <p:cNvSpPr/>
            <p:nvPr/>
          </p:nvSpPr>
          <p:spPr>
            <a:xfrm>
              <a:off x="5003640" y="4221000"/>
              <a:ext cx="309564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03640" y="1989000"/>
              <a:ext cx="316728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kové schéma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2560" y="1773360"/>
            <a:ext cx="129708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síl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74072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740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7407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4072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65928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941720"/>
            <a:ext cx="86544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4941720"/>
            <a:ext cx="86508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72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97080" cy="2055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ysíl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Napájecí obv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Vysílací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Diferenciální omez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3027600" cy="154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4480200" cy="322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2638440"/>
            <a:ext cx="6516720" cy="1488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435640" y="549360"/>
            <a:ext cx="29084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55640" y="1989000"/>
            <a:ext cx="3166920" cy="4535640"/>
            <a:chOff x="755640" y="1989000"/>
            <a:chExt cx="3166920" cy="4535640"/>
          </a:xfrm>
        </p:grpSpPr>
        <p:sp>
          <p:nvSpPr>
            <p:cNvPr id="80" name=""/>
            <p:cNvSpPr/>
            <p:nvPr/>
          </p:nvSpPr>
          <p:spPr>
            <a:xfrm>
              <a:off x="75564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19640" y="1989000"/>
            <a:ext cx="3167280" cy="4535640"/>
            <a:chOff x="5219640" y="1989000"/>
            <a:chExt cx="3167280" cy="4535640"/>
          </a:xfrm>
        </p:grpSpPr>
        <p:sp>
          <p:nvSpPr>
            <p:cNvPr id="83" name=""/>
            <p:cNvSpPr/>
            <p:nvPr/>
          </p:nvSpPr>
          <p:spPr>
            <a:xfrm>
              <a:off x="5219640" y="4221000"/>
              <a:ext cx="309564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19640" y="1989000"/>
              <a:ext cx="316728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kové schéma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3024360" cy="57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6436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2560" y="1773360"/>
            <a:ext cx="129708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síl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1773360"/>
            <a:ext cx="143856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jím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3528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25856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74072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740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7407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4072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5928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4941720"/>
            <a:ext cx="86544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941720"/>
            <a:ext cx="86508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72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ijím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Přijímací dioda a zesil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Diferenciální omez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4162320"/>
            <a:ext cx="4038480" cy="173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4032360" cy="3154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64000" y="260280"/>
            <a:ext cx="3008520" cy="374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3860640"/>
            <a:ext cx="31831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5148360" y="1989000"/>
            <a:ext cx="3166920" cy="4535640"/>
            <a:chOff x="5148360" y="1989000"/>
            <a:chExt cx="3166920" cy="4535640"/>
          </a:xfrm>
        </p:grpSpPr>
        <p:sp>
          <p:nvSpPr>
            <p:cNvPr id="113" name=""/>
            <p:cNvSpPr/>
            <p:nvPr/>
          </p:nvSpPr>
          <p:spPr>
            <a:xfrm>
              <a:off x="514836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836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55640" y="1989000"/>
            <a:ext cx="3166920" cy="4535640"/>
            <a:chOff x="755640" y="1989000"/>
            <a:chExt cx="3166920" cy="4535640"/>
          </a:xfrm>
        </p:grpSpPr>
        <p:sp>
          <p:nvSpPr>
            <p:cNvPr id="116" name=""/>
            <p:cNvSpPr/>
            <p:nvPr/>
          </p:nvSpPr>
          <p:spPr>
            <a:xfrm>
              <a:off x="75564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64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kové schéma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10800000">
            <a:off x="3059280" y="2781000"/>
            <a:ext cx="3024000" cy="561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132000" y="1773360"/>
            <a:ext cx="3024360" cy="57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6436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2560" y="1773360"/>
            <a:ext cx="129708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2560" y="2781360"/>
            <a:ext cx="1297080" cy="576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2781360"/>
            <a:ext cx="1438560" cy="57636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773360"/>
            <a:ext cx="143856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3528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56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54764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472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74072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40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7407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4072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65928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86544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941720"/>
            <a:ext cx="86508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372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3:36:50Z</dcterms:created>
  <dc:creator>Zezael</dc:creator>
  <dc:description/>
  <dc:language>en-US</dc:language>
  <cp:lastModifiedBy>Zezael</cp:lastModifiedBy>
  <dcterms:modified xsi:type="dcterms:W3CDTF">2005-05-08T18:21:06Z</dcterms:modified>
  <cp:revision>30</cp:revision>
  <dc:subject/>
  <dc:title>Prezentace maturitního výrobku </dc:title>
</cp:coreProperties>
</file>